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Imperial Japanese Flag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0000"/>
                </a:solidFill>
                <a:latin typeface="Japan"/>
              </a:rPr>
              <a:t>Click to edit the title text format</a:t>
            </a:r>
            <a:endParaRPr b="0" lang="en-US" sz="4400" spc="-1" strike="noStrike">
              <a:solidFill>
                <a:srgbClr val="e20000"/>
              </a:solidFill>
              <a:latin typeface="Jap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dc8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762120" y="914400"/>
            <a:ext cx="76197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ff7171">
                      <a:alpha val="50000"/>
                    </a:srgbClr>
                  </a:outerShdw>
                </a:effectLst>
                <a:latin typeface="Last Ninja"/>
              </a:rPr>
              <a:t>Japa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ff7171">
                    <a:alpha val="50000"/>
                  </a:srgbClr>
                </a:outerShdw>
              </a:effectLst>
              <a:latin typeface="Last Ninja"/>
              <a:ea typeface="Last Ninj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ff7171">
                      <a:alpha val="50000"/>
                    </a:srgbClr>
                  </a:outerShdw>
                </a:effectLst>
                <a:latin typeface="Last Ninja"/>
              </a:rPr>
              <a:t>becomes a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ff7171">
                    <a:alpha val="50000"/>
                  </a:srgbClr>
                </a:outerShdw>
              </a:effectLst>
              <a:latin typeface="Last Ninja"/>
              <a:ea typeface="Last Ninj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ff7171">
                      <a:alpha val="50000"/>
                    </a:srgbClr>
                  </a:outerShdw>
                </a:effectLst>
                <a:latin typeface="Last Ninja"/>
              </a:rPr>
              <a:t>“</a:t>
            </a: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ff7171">
                      <a:alpha val="50000"/>
                    </a:srgbClr>
                  </a:outerShdw>
                </a:effectLst>
                <a:latin typeface="Last Ninja"/>
              </a:rPr>
              <a:t>Western” natio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ff7171">
                    <a:alpha val="50000"/>
                  </a:srgbClr>
                </a:outerShdw>
              </a:effectLst>
              <a:latin typeface="Last Ninja"/>
              <a:ea typeface="Last Ninj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26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Meiji Revolt - 18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27"/>
          <p:cNvSpPr/>
          <p:nvPr/>
        </p:nvSpPr>
        <p:spPr>
          <a:xfrm>
            <a:off x="533520" y="1219320"/>
            <a:ext cx="3733560" cy="56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powerful gro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of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samura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overthrow th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Shog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Sakamoto Ryom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the h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 helped Japa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emerge fro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feudalism into 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unified moder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st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29" descr="Sakamoto Ryoma"/>
          <p:cNvPicPr/>
          <p:nvPr/>
        </p:nvPicPr>
        <p:blipFill>
          <a:blip r:embed="rId1"/>
          <a:srcRect l="1926" t="2853" r="3578" b="2853"/>
          <a:stretch/>
        </p:blipFill>
        <p:spPr>
          <a:xfrm>
            <a:off x="4800600" y="1371600"/>
            <a:ext cx="37339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Shogunate Is Overthr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last of samurai last Tokugawa"/>
          <p:cNvPicPr/>
          <p:nvPr/>
        </p:nvPicPr>
        <p:blipFill>
          <a:blip r:embed="rId1"/>
          <a:stretch/>
        </p:blipFill>
        <p:spPr>
          <a:xfrm>
            <a:off x="4224240" y="1371600"/>
            <a:ext cx="39290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Text Box 4"/>
          <p:cNvSpPr/>
          <p:nvPr/>
        </p:nvSpPr>
        <p:spPr>
          <a:xfrm>
            <a:off x="838080" y="1219320"/>
            <a:ext cx="2895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las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Shog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kugaw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Yoshinob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Tokugawa Yoshinobu"/>
          <p:cNvPicPr/>
          <p:nvPr/>
        </p:nvPicPr>
        <p:blipFill>
          <a:blip r:embed="rId2"/>
          <a:stretch/>
        </p:blipFill>
        <p:spPr>
          <a:xfrm>
            <a:off x="1027080" y="3505320"/>
            <a:ext cx="2249640" cy="29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emperor Mutsuhito first Meiji"/>
          <p:cNvPicPr/>
          <p:nvPr/>
        </p:nvPicPr>
        <p:blipFill>
          <a:blip r:embed="rId1">
            <a:lum contrast="6000"/>
          </a:blip>
          <a:srcRect l="56678" t="33310" r="5329" b="5493"/>
          <a:stretch/>
        </p:blipFill>
        <p:spPr>
          <a:xfrm>
            <a:off x="2666880" y="1066680"/>
            <a:ext cx="4038840" cy="487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Text Box 4"/>
          <p:cNvSpPr/>
          <p:nvPr/>
        </p:nvSpPr>
        <p:spPr>
          <a:xfrm>
            <a:off x="1523880" y="6172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MEIJ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“Enlightened Ru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380880" y="15228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Emperor Is “Restored” to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80880" y="27288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Newspaper Cartoon, 1870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BUNMEI"/>
          <p:cNvPicPr/>
          <p:nvPr/>
        </p:nvPicPr>
        <p:blipFill>
          <a:blip r:embed="rId1">
            <a:lum contrast="6000"/>
          </a:blip>
          <a:srcRect l="2354" t="1530" r="0" b="0"/>
          <a:stretch/>
        </p:blipFill>
        <p:spPr>
          <a:xfrm>
            <a:off x="1600200" y="1143000"/>
            <a:ext cx="6248520" cy="473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Text Box 4"/>
          <p:cNvSpPr/>
          <p:nvPr/>
        </p:nvSpPr>
        <p:spPr>
          <a:xfrm>
            <a:off x="1523880" y="60958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lightened     Half-Enlightened    Un-Enlight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4267080" y="228600"/>
            <a:ext cx="43434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Modernization by </a:t>
            </a:r>
            <a:br>
              <a:rPr sz="3600"/>
            </a:br>
            <a:r>
              <a:rPr b="1" lang="en-US" sz="3600" spc="-1" strike="noStrike">
                <a:solidFill>
                  <a:srgbClr val="e20000"/>
                </a:solidFill>
                <a:latin typeface="Japan"/>
              </a:rPr>
              <a:t>“Selective Borrowin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Board game"/>
          <p:cNvPicPr/>
          <p:nvPr/>
        </p:nvPicPr>
        <p:blipFill>
          <a:blip r:embed="rId1"/>
          <a:srcRect l="1940" t="1388" r="1093" b="0"/>
          <a:stretch/>
        </p:blipFill>
        <p:spPr>
          <a:xfrm>
            <a:off x="228600" y="304920"/>
            <a:ext cx="4346640" cy="6172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4724280" y="2340000"/>
            <a:ext cx="426744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opular board ga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tart by leavin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Japan &amp; studying in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various Western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capit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nd by returning to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Japan and becoming a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prominent governm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offic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5257800" y="228600"/>
            <a:ext cx="35053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20000"/>
                </a:solidFill>
                <a:latin typeface="Japan"/>
              </a:rPr>
              <a:t>European</a:t>
            </a:r>
            <a:br>
              <a:rPr sz="4400"/>
            </a:br>
            <a:r>
              <a:rPr b="1" lang="en-US" sz="4400" spc="-1" strike="noStrike">
                <a:solidFill>
                  <a:srgbClr val="e20000"/>
                </a:solidFill>
                <a:latin typeface="Japan"/>
              </a:rPr>
              <a:t>G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PROSPER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0880" y="228600"/>
            <a:ext cx="441828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Text Box 4"/>
          <p:cNvSpPr/>
          <p:nvPr/>
        </p:nvSpPr>
        <p:spPr>
          <a:xfrm>
            <a:off x="4952880" y="2041560"/>
            <a:ext cx="396252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Europe began to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“loom large” in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the thinking of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many Japane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0033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New slogan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000" spc="-1" strike="noStrike">
                <a:solidFill>
                  <a:srgbClr val="e20000"/>
                </a:solidFill>
                <a:latin typeface="Comic Sans MS"/>
              </a:rPr>
              <a:t>Japanese Spirit;</a:t>
            </a:r>
            <a:br>
              <a:rPr sz="3000"/>
            </a:br>
            <a:r>
              <a:rPr b="1" i="1" lang="en-US" sz="3000" spc="-1" strike="noStrike">
                <a:solidFill>
                  <a:srgbClr val="e20000"/>
                </a:solidFill>
                <a:latin typeface="Comic Sans MS"/>
              </a:rPr>
              <a:t>   Western</a:t>
            </a:r>
            <a:br>
              <a:rPr sz="3000"/>
            </a:br>
            <a:r>
              <a:rPr b="1" i="1" lang="en-US" sz="3000" spc="-1" strike="noStrike">
                <a:solidFill>
                  <a:srgbClr val="e20000"/>
                </a:solidFill>
                <a:latin typeface="Comic Sans MS"/>
              </a:rPr>
              <a:t>   Technolog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80880" y="22860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Japanese Became Obsessed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with Western Sty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5GIRL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61920" y="1744560"/>
            <a:ext cx="3973680" cy="403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Picture 4" descr="LADY1"/>
          <p:cNvPicPr/>
          <p:nvPr/>
        </p:nvPicPr>
        <p:blipFill>
          <a:blip r:embed="rId2"/>
          <a:stretch/>
        </p:blipFill>
        <p:spPr>
          <a:xfrm>
            <a:off x="5638680" y="1676520"/>
            <a:ext cx="2619360" cy="410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 Box 5"/>
          <p:cNvSpPr/>
          <p:nvPr/>
        </p:nvSpPr>
        <p:spPr>
          <a:xfrm>
            <a:off x="1371600" y="6019920"/>
            <a:ext cx="6553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Comic Sans MS"/>
              </a:rPr>
              <a:t>Civilization and Enlightenm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0000000c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90720" y="1041480"/>
            <a:ext cx="7238880" cy="543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0" name="Text Box 2"/>
          <p:cNvSpPr/>
          <p:nvPr/>
        </p:nvSpPr>
        <p:spPr>
          <a:xfrm>
            <a:off x="380880" y="22860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Everything Western Was Fashiona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Maiji Japan-soldiers &amp; wives"/>
          <p:cNvPicPr/>
          <p:nvPr/>
        </p:nvPicPr>
        <p:blipFill>
          <a:blip r:embed="rId1"/>
          <a:stretch/>
        </p:blipFill>
        <p:spPr>
          <a:xfrm>
            <a:off x="2655720" y="990720"/>
            <a:ext cx="405000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Text Box 6"/>
          <p:cNvSpPr/>
          <p:nvPr/>
        </p:nvSpPr>
        <p:spPr>
          <a:xfrm>
            <a:off x="1371600" y="6172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apanese soldiers with their w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5228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Everything Western Was Fashiona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80880" y="15228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Rulers Set the Tone 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with Western D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914400" y="58057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mperor Meiji                Empress Haruko (1868- 191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Meiji EMperor"/>
          <p:cNvPicPr/>
          <p:nvPr/>
        </p:nvPicPr>
        <p:blipFill>
          <a:blip r:embed="rId1"/>
          <a:stretch/>
        </p:blipFill>
        <p:spPr>
          <a:xfrm>
            <a:off x="914400" y="1600200"/>
            <a:ext cx="2709720" cy="416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7" descr="E,press Haruko"/>
          <p:cNvPicPr/>
          <p:nvPr/>
        </p:nvPicPr>
        <p:blipFill>
          <a:blip r:embed="rId2"/>
          <a:stretch/>
        </p:blipFill>
        <p:spPr>
          <a:xfrm>
            <a:off x="5002200" y="1600200"/>
            <a:ext cx="315108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0880" y="333360"/>
            <a:ext cx="838224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Japan Changes Direction During the 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Meiji Era:  1868 - 19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perry-twoviews"/>
          <p:cNvPicPr/>
          <p:nvPr/>
        </p:nvPicPr>
        <p:blipFill>
          <a:blip r:embed="rId1"/>
          <a:stretch/>
        </p:blipFill>
        <p:spPr>
          <a:xfrm>
            <a:off x="1523880" y="1981080"/>
            <a:ext cx="6248520" cy="4048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1523880" y="60958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odore Matthew Pe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80880" y="33336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Changing Women’s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Fash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Meiji woman 1900 hairstyle"/>
          <p:cNvPicPr/>
          <p:nvPr/>
        </p:nvPicPr>
        <p:blipFill>
          <a:blip r:embed="rId1"/>
          <a:stretch/>
        </p:blipFill>
        <p:spPr>
          <a:xfrm>
            <a:off x="380880" y="1371600"/>
            <a:ext cx="269424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4" descr="meiji woman 1900 swimmiing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429000" y="2438280"/>
            <a:ext cx="245736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Picture 5" descr="Meiji woman 1908 miss japan"/>
          <p:cNvPicPr/>
          <p:nvPr/>
        </p:nvPicPr>
        <p:blipFill>
          <a:blip r:embed="rId3"/>
          <a:stretch/>
        </p:blipFill>
        <p:spPr>
          <a:xfrm>
            <a:off x="6172200" y="1371600"/>
            <a:ext cx="27036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Text Box 6"/>
          <p:cNvSpPr/>
          <p:nvPr/>
        </p:nvSpPr>
        <p:spPr>
          <a:xfrm>
            <a:off x="304920" y="5257800"/>
            <a:ext cx="274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900 Sty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172200" y="5181480"/>
            <a:ext cx="274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The First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“Miss Japan”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(19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276720" y="2438280"/>
            <a:ext cx="2971800" cy="25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Japan"/>
              </a:rPr>
              <a:t>Meiji</a:t>
            </a:r>
            <a:br>
              <a:rPr sz="5400"/>
            </a:br>
            <a:r>
              <a:rPr b="1" lang="en-US" sz="5400" spc="-1" strike="noStrike">
                <a:solidFill>
                  <a:srgbClr val="333399"/>
                </a:solidFill>
                <a:latin typeface="Japan"/>
              </a:rPr>
              <a:t>Refor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1295280" y="380880"/>
            <a:ext cx="198144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boli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of th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eud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3733920" y="3049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Lan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Re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2362320" y="51055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Human Right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&amp; Religiou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6858000" y="411480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Build 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odern Nav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Briti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6172200" y="3049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Westerniz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Schoo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U.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6858000" y="2209680"/>
            <a:ext cx="198108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oderniz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Arm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Prussi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4800600" y="5105520"/>
            <a:ext cx="1981080" cy="152388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Emper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Worship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ntens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 flipH="1" flipV="1">
            <a:off x="2971800" y="1752120"/>
            <a:ext cx="914400" cy="838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 flipV="1">
            <a:off x="5562720" y="1752120"/>
            <a:ext cx="914400" cy="838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V="1">
            <a:off x="4800600" y="1981080"/>
            <a:ext cx="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>
            <a:off x="5791320" y="2971800"/>
            <a:ext cx="9144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6095880" y="3809880"/>
            <a:ext cx="914400" cy="5335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5334120" y="4038480"/>
            <a:ext cx="304560" cy="99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9"/>
          <p:cNvSpPr/>
          <p:nvPr/>
        </p:nvSpPr>
        <p:spPr>
          <a:xfrm flipH="1">
            <a:off x="3581280" y="4038480"/>
            <a:ext cx="609840" cy="99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2"/>
          <p:cNvSpPr/>
          <p:nvPr/>
        </p:nvSpPr>
        <p:spPr>
          <a:xfrm>
            <a:off x="533520" y="3809880"/>
            <a:ext cx="198108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Writte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Constitu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(Germ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 flipH="1">
            <a:off x="2590920" y="3962520"/>
            <a:ext cx="838080" cy="3045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4"/>
          <p:cNvSpPr/>
          <p:nvPr/>
        </p:nvSpPr>
        <p:spPr>
          <a:xfrm>
            <a:off x="457200" y="1981080"/>
            <a:ext cx="1981080" cy="152424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oder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Bankin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 flipH="1" flipV="1">
            <a:off x="2514240" y="2819160"/>
            <a:ext cx="1219320" cy="152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Perry in Japan-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057400" y="2014560"/>
            <a:ext cx="4952880" cy="484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Text Box 2"/>
          <p:cNvSpPr/>
          <p:nvPr/>
        </p:nvSpPr>
        <p:spPr>
          <a:xfrm>
            <a:off x="380880" y="152280"/>
            <a:ext cx="838224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1853 – Commodore Matthew Perry</a:t>
            </a:r>
            <a:br>
              <a:rPr sz="4000"/>
            </a:b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“Opens Up” Japan to Western Tra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map-US Expansion to 1900"/>
          <p:cNvPicPr/>
          <p:nvPr/>
        </p:nvPicPr>
        <p:blipFill>
          <a:blip r:embed="rId1"/>
          <a:srcRect l="1162" t="2797" r="1309" b="2211"/>
          <a:stretch/>
        </p:blipFill>
        <p:spPr>
          <a:xfrm>
            <a:off x="380880" y="1346040"/>
            <a:ext cx="5867640" cy="474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2" name="Text Box 2"/>
          <p:cNvSpPr/>
          <p:nvPr/>
        </p:nvSpPr>
        <p:spPr>
          <a:xfrm>
            <a:off x="380880" y="28908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What Did the U. S. Want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324480" y="2525760"/>
            <a:ext cx="266724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Coaling stations.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More trading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  partners.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3333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A haven for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 ship-wrecked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  sailo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648320" y="714240"/>
            <a:ext cx="41148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Perry’s “Black Ship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erry's Black Ship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04920" y="228600"/>
            <a:ext cx="386064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Opening of Japan by Perry - 1855"/>
          <p:cNvPicPr/>
          <p:nvPr/>
        </p:nvPicPr>
        <p:blipFill>
          <a:blip r:embed="rId2">
            <a:lum contrast="6000"/>
          </a:blip>
          <a:srcRect l="1874" t="1727" r="0" b="0"/>
          <a:stretch/>
        </p:blipFill>
        <p:spPr>
          <a:xfrm>
            <a:off x="1828800" y="2770200"/>
            <a:ext cx="7086600" cy="385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42552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Treaty of Kanagawa - 18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Jap host bows before Perry"/>
          <p:cNvPicPr/>
          <p:nvPr/>
        </p:nvPicPr>
        <p:blipFill>
          <a:blip r:embed="rId1">
            <a:lum contrast="6000"/>
          </a:blip>
          <a:srcRect l="2248" t="0" r="0" b="4417"/>
          <a:stretch/>
        </p:blipFill>
        <p:spPr>
          <a:xfrm>
            <a:off x="1371600" y="1371600"/>
            <a:ext cx="6629400" cy="508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Japan Learns a Less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914400" y="1230480"/>
            <a:ext cx="7696080" cy="46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 1862, just before the start of the Meiji period, Tokugawa sent officials and scholars to China to study the situation there. A Japanese recorded in his diary from Shanghai…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Comic Sans MS"/>
              </a:rPr>
              <a:t>The Chinese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Comic Sans MS"/>
              </a:rPr>
              <a:t>have become servants to the foreigners. Sovereignty may belong to China but in fact it's no more than a colony of Great Britain and F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80880" y="27288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China’s “Unequal Treatie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forced to open port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71600" y="1371600"/>
            <a:ext cx="647712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Rectangle 4"/>
          <p:cNvSpPr/>
          <p:nvPr/>
        </p:nvSpPr>
        <p:spPr>
          <a:xfrm>
            <a:off x="1066680" y="52894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fter the Opium War of 1839-1842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Japan was convinced that it had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pen Up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o the 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80880" y="22860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71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The </a:t>
            </a:r>
            <a:r>
              <a:rPr b="1" i="1" lang="en-US" sz="4000" spc="-1" strike="noStrike">
                <a:solidFill>
                  <a:srgbClr val="e20000"/>
                </a:solidFill>
                <a:latin typeface="Japan"/>
              </a:rPr>
              <a:t>Shi-shi</a:t>
            </a:r>
            <a:r>
              <a:rPr b="1" lang="en-US" sz="4000" spc="-1" strike="noStrike">
                <a:solidFill>
                  <a:srgbClr val="e20000"/>
                </a:solidFill>
                <a:latin typeface="Japan"/>
              </a:rPr>
              <a:t> (“Men of High Purpose”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57200" y="996840"/>
            <a:ext cx="8458200" cy="54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ighly idealistic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samurai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who felt that th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arrival of Westerners was an attack on th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traditional values of Jap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y believed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624"/>
              </a:spcBef>
              <a:buClr>
                <a:srgbClr val="e20000"/>
              </a:buClr>
              <a:buSzPct val="90000"/>
              <a:buFont typeface="Wingdings" charset="2"/>
              <a:buChar char=""/>
              <a:tabLst>
                <a:tab algn="l" pos="398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Japan was sacred grou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624"/>
              </a:spcBef>
              <a:buClr>
                <a:srgbClr val="e20000"/>
              </a:buClr>
              <a:buSzPct val="90000"/>
              <a:buFont typeface="Wingdings" charset="2"/>
              <a:buChar char=""/>
              <a:tabLst>
                <a:tab algn="l" pos="398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The emperor, now a figurehead in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Kyoto, was a G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ere furious at the Shogun for signing treati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with the West without the Emperor’s cons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90000"/>
              <a:buFont typeface="Wingdings" charset="2"/>
              <a:buChar char=""/>
              <a:tabLst>
                <a:tab algn="l" pos="39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Their slogan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600" spc="-1" strike="noStrike">
                <a:solidFill>
                  <a:srgbClr val="e20000"/>
                </a:solidFill>
                <a:latin typeface="Comic Sans MS"/>
              </a:rPr>
              <a:t>Revere the Emperor, Expel</a:t>
            </a:r>
            <a:br>
              <a:rPr sz="2600"/>
            </a:br>
            <a:r>
              <a:rPr b="1" i="1" lang="en-US" sz="2600" spc="-1" strike="noStrike">
                <a:solidFill>
                  <a:srgbClr val="e20000"/>
                </a:solidFill>
                <a:latin typeface="Comic Sans MS"/>
              </a:rPr>
              <a:t>                    the Barbaria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5:45:39Z</dcterms:created>
  <dc:creator>Sue Pojer &amp; Lisbeth Rath</dc:creator>
  <dc:description/>
  <dc:language>en-US</dc:language>
  <cp:lastModifiedBy>admin</cp:lastModifiedBy>
  <dcterms:modified xsi:type="dcterms:W3CDTF">2011-05-13T13:01:37Z</dcterms:modified>
  <cp:revision>84</cp:revision>
  <dc:subject/>
  <dc:title>Japan Becomes an Imperialist Power</dc:title>
</cp:coreProperties>
</file>